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8BE53-A69B-4328-A45E-FD33070A2A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4945-53FB-4413-BE43-F5934F321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2264-731C-4F31-8F55-FEF7CA372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40444-3C90-46B5-9686-C15A32185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3B20-4F86-4A0D-A190-724ED95CF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6F64-9DE2-43EA-B9EA-5F159B8229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5CB4-19E7-47D7-B2A3-154514C98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BF599-1AA4-4740-B0D3-BF1D928E4D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8AE1-A46D-4C31-A734-659BABC7F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8A3D-3D84-423E-BA0A-9AE3D02247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C51A-2C14-4559-9BF6-EC84619A5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A572-6E33-441B-B2F2-CEB13435D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199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923760" indent="-237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95280" indent="-266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638360" indent="-266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638360" indent="-266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638360" indent="-266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282160" y="4789080"/>
            <a:ext cx="233280" cy="23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88888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02EC-563C-4612-AD4F-4E11C14872B7}" type="slidenum">
              <a:rPr b="0" lang="en-US" sz="900" spc="-1" strike="noStrike">
                <a:solidFill>
                  <a:srgbClr val="888888"/>
                </a:solidFill>
                <a:latin typeface="Times New Roman"/>
                <a:ea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Google Shape;9;p2" descr=""/>
          <p:cNvPicPr/>
          <p:nvPr/>
        </p:nvPicPr>
        <p:blipFill>
          <a:blip r:embed="rId2"/>
          <a:srcRect l="5944" t="0" r="2141" b="10826"/>
          <a:stretch/>
        </p:blipFill>
        <p:spPr>
          <a:xfrm>
            <a:off x="-930240" y="-1150920"/>
            <a:ext cx="3290760" cy="2608200"/>
          </a:xfrm>
          <a:prstGeom prst="rect">
            <a:avLst/>
          </a:prstGeom>
          <a:ln w="0">
            <a:noFill/>
          </a:ln>
        </p:spPr>
      </p:pic>
      <p:pic>
        <p:nvPicPr>
          <p:cNvPr id="40" name="Google Shape;12;p2" descr=""/>
          <p:cNvPicPr/>
          <p:nvPr/>
        </p:nvPicPr>
        <p:blipFill>
          <a:blip r:embed="rId3"/>
          <a:stretch/>
        </p:blipFill>
        <p:spPr>
          <a:xfrm>
            <a:off x="-817560" y="1457280"/>
            <a:ext cx="1639800" cy="1474920"/>
          </a:xfrm>
          <a:prstGeom prst="rect">
            <a:avLst/>
          </a:prstGeom>
          <a:ln w="0">
            <a:noFill/>
          </a:ln>
        </p:spPr>
      </p:pic>
      <p:sp>
        <p:nvSpPr>
          <p:cNvPr id="41" name="Google Shape;13;p2"/>
          <p:cNvSpPr/>
          <p:nvPr/>
        </p:nvSpPr>
        <p:spPr>
          <a:xfrm>
            <a:off x="8637480" y="1754280"/>
            <a:ext cx="203400" cy="203040"/>
          </a:xfrm>
          <a:custGeom>
            <a:avLst/>
            <a:gdLst/>
            <a:ahLst/>
            <a:rect l="l" t="t" r="r" b="b"/>
            <a:pathLst>
              <a:path fill="none" w="6193" h="6193">
                <a:moveTo>
                  <a:pt x="6192" y="2654"/>
                </a:moveTo>
                <a:cubicBezTo>
                  <a:pt x="6192" y="4994"/>
                  <a:pt x="3339" y="6192"/>
                  <a:pt x="1684" y="4509"/>
                </a:cubicBezTo>
                <a:cubicBezTo>
                  <a:pt x="1" y="2854"/>
                  <a:pt x="1199" y="1"/>
                  <a:pt x="3567" y="1"/>
                </a:cubicBezTo>
                <a:cubicBezTo>
                  <a:pt x="5022" y="1"/>
                  <a:pt x="6192" y="1171"/>
                  <a:pt x="6192" y="2654"/>
                </a:cubicBezTo>
                <a:close/>
              </a:path>
            </a:pathLst>
          </a:custGeom>
          <a:noFill/>
          <a:ln w="10800">
            <a:solidFill>
              <a:srgbClr val="9ba7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Google Shape;14;p2"/>
          <p:cNvSpPr/>
          <p:nvPr/>
        </p:nvSpPr>
        <p:spPr>
          <a:xfrm>
            <a:off x="5450040" y="4335480"/>
            <a:ext cx="263520" cy="264960"/>
          </a:xfrm>
          <a:custGeom>
            <a:avLst/>
            <a:gdLst/>
            <a:ahLst/>
            <a:rect l="l" t="t" r="r" b="b"/>
            <a:pathLst>
              <a:path fill="none" w="8076" h="8075">
                <a:moveTo>
                  <a:pt x="8075" y="4052"/>
                </a:moveTo>
                <a:cubicBezTo>
                  <a:pt x="8075" y="6277"/>
                  <a:pt x="6278" y="8075"/>
                  <a:pt x="4052" y="8075"/>
                </a:cubicBezTo>
                <a:cubicBezTo>
                  <a:pt x="1798" y="8075"/>
                  <a:pt x="1" y="6277"/>
                  <a:pt x="1" y="4052"/>
                </a:cubicBezTo>
                <a:cubicBezTo>
                  <a:pt x="1" y="1798"/>
                  <a:pt x="1798" y="0"/>
                  <a:pt x="4052" y="0"/>
                </a:cubicBezTo>
                <a:cubicBezTo>
                  <a:pt x="6278" y="0"/>
                  <a:pt x="8075" y="1798"/>
                  <a:pt x="8075" y="4052"/>
                </a:cubicBezTo>
                <a:close/>
              </a:path>
            </a:pathLst>
          </a:custGeom>
          <a:noFill/>
          <a:ln w="10800">
            <a:solidFill>
              <a:srgbClr val="9ba7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91080" bIns="9108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oogle Shape;15;p2"/>
          <p:cNvGrpSpPr/>
          <p:nvPr/>
        </p:nvGrpSpPr>
        <p:grpSpPr>
          <a:xfrm>
            <a:off x="-230040" y="3807000"/>
            <a:ext cx="955440" cy="298440"/>
            <a:chOff x="-230040" y="3807000"/>
            <a:chExt cx="955440" cy="298440"/>
          </a:xfrm>
        </p:grpSpPr>
        <p:sp>
          <p:nvSpPr>
            <p:cNvPr id="44" name="Google Shape;16;p2"/>
            <p:cNvSpPr/>
            <p:nvPr/>
          </p:nvSpPr>
          <p:spPr>
            <a:xfrm>
              <a:off x="-230040" y="3807000"/>
              <a:ext cx="955440" cy="54000"/>
            </a:xfrm>
            <a:custGeom>
              <a:avLst/>
              <a:gdLst/>
              <a:ahLst/>
              <a:rect l="l" t="t" r="r" b="b"/>
              <a:pathLst>
                <a:path fill="none" w="29246" h="1656">
                  <a:moveTo>
                    <a:pt x="0" y="1656"/>
                  </a:moveTo>
                  <a:lnTo>
                    <a:pt x="1798" y="600"/>
                  </a:lnTo>
                  <a:cubicBezTo>
                    <a:pt x="2254" y="315"/>
                    <a:pt x="2825" y="315"/>
                    <a:pt x="3310" y="572"/>
                  </a:cubicBezTo>
                  <a:lnTo>
                    <a:pt x="4080" y="1000"/>
                  </a:lnTo>
                  <a:cubicBezTo>
                    <a:pt x="4537" y="1256"/>
                    <a:pt x="5108" y="1256"/>
                    <a:pt x="5564" y="971"/>
                  </a:cubicBezTo>
                  <a:lnTo>
                    <a:pt x="6306" y="543"/>
                  </a:lnTo>
                  <a:cubicBezTo>
                    <a:pt x="6762" y="258"/>
                    <a:pt x="7333" y="258"/>
                    <a:pt x="7818" y="514"/>
                  </a:cubicBezTo>
                  <a:lnTo>
                    <a:pt x="8560" y="942"/>
                  </a:lnTo>
                  <a:cubicBezTo>
                    <a:pt x="9045" y="1199"/>
                    <a:pt x="9616" y="1199"/>
                    <a:pt x="10072" y="914"/>
                  </a:cubicBezTo>
                  <a:lnTo>
                    <a:pt x="10814" y="457"/>
                  </a:lnTo>
                  <a:cubicBezTo>
                    <a:pt x="11271" y="201"/>
                    <a:pt x="11841" y="201"/>
                    <a:pt x="12326" y="457"/>
                  </a:cubicBezTo>
                  <a:lnTo>
                    <a:pt x="13068" y="885"/>
                  </a:lnTo>
                  <a:cubicBezTo>
                    <a:pt x="13553" y="1142"/>
                    <a:pt x="14124" y="1142"/>
                    <a:pt x="14580" y="885"/>
                  </a:cubicBezTo>
                  <a:lnTo>
                    <a:pt x="15322" y="429"/>
                  </a:lnTo>
                  <a:cubicBezTo>
                    <a:pt x="15779" y="144"/>
                    <a:pt x="16378" y="144"/>
                    <a:pt x="16834" y="429"/>
                  </a:cubicBezTo>
                  <a:lnTo>
                    <a:pt x="17605" y="828"/>
                  </a:lnTo>
                  <a:cubicBezTo>
                    <a:pt x="18061" y="1085"/>
                    <a:pt x="18632" y="1085"/>
                    <a:pt x="19088" y="828"/>
                  </a:cubicBezTo>
                  <a:lnTo>
                    <a:pt x="19859" y="372"/>
                  </a:lnTo>
                  <a:cubicBezTo>
                    <a:pt x="20315" y="115"/>
                    <a:pt x="20886" y="87"/>
                    <a:pt x="21342" y="343"/>
                  </a:cubicBezTo>
                  <a:lnTo>
                    <a:pt x="22084" y="771"/>
                  </a:lnTo>
                  <a:cubicBezTo>
                    <a:pt x="22541" y="1028"/>
                    <a:pt x="23111" y="1028"/>
                    <a:pt x="23568" y="743"/>
                  </a:cubicBezTo>
                  <a:lnTo>
                    <a:pt x="24338" y="286"/>
                  </a:lnTo>
                  <a:cubicBezTo>
                    <a:pt x="24795" y="29"/>
                    <a:pt x="25365" y="29"/>
                    <a:pt x="25822" y="286"/>
                  </a:cubicBezTo>
                  <a:lnTo>
                    <a:pt x="26592" y="714"/>
                  </a:lnTo>
                  <a:cubicBezTo>
                    <a:pt x="27049" y="971"/>
                    <a:pt x="27619" y="971"/>
                    <a:pt x="28076" y="714"/>
                  </a:cubicBezTo>
                  <a:lnTo>
                    <a:pt x="29246" y="1"/>
                  </a:lnTo>
                </a:path>
              </a:pathLst>
            </a:custGeom>
            <a:noFill/>
            <a:ln cap="rnd" w="14400">
              <a:solidFill>
                <a:srgbClr val="9ba7f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080" bIns="-3708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Google Shape;17;p2"/>
            <p:cNvSpPr/>
            <p:nvPr/>
          </p:nvSpPr>
          <p:spPr>
            <a:xfrm>
              <a:off x="-230040" y="3927600"/>
              <a:ext cx="955440" cy="55080"/>
            </a:xfrm>
            <a:custGeom>
              <a:avLst/>
              <a:gdLst/>
              <a:ahLst/>
              <a:rect l="l" t="t" r="r" b="b"/>
              <a:pathLst>
                <a:path fill="none" w="29246" h="1684">
                  <a:moveTo>
                    <a:pt x="0" y="1684"/>
                  </a:moveTo>
                  <a:lnTo>
                    <a:pt x="1798" y="628"/>
                  </a:lnTo>
                  <a:cubicBezTo>
                    <a:pt x="2283" y="371"/>
                    <a:pt x="2854" y="371"/>
                    <a:pt x="3310" y="628"/>
                  </a:cubicBezTo>
                  <a:lnTo>
                    <a:pt x="4080" y="1056"/>
                  </a:lnTo>
                  <a:cubicBezTo>
                    <a:pt x="4537" y="1313"/>
                    <a:pt x="5108" y="1313"/>
                    <a:pt x="5564" y="1028"/>
                  </a:cubicBezTo>
                  <a:lnTo>
                    <a:pt x="6306" y="600"/>
                  </a:lnTo>
                  <a:cubicBezTo>
                    <a:pt x="6762" y="314"/>
                    <a:pt x="7333" y="314"/>
                    <a:pt x="7818" y="571"/>
                  </a:cubicBezTo>
                  <a:lnTo>
                    <a:pt x="8560" y="999"/>
                  </a:lnTo>
                  <a:cubicBezTo>
                    <a:pt x="9045" y="1256"/>
                    <a:pt x="9616" y="1256"/>
                    <a:pt x="10072" y="999"/>
                  </a:cubicBezTo>
                  <a:lnTo>
                    <a:pt x="10814" y="543"/>
                  </a:lnTo>
                  <a:cubicBezTo>
                    <a:pt x="11271" y="286"/>
                    <a:pt x="11841" y="257"/>
                    <a:pt x="12326" y="514"/>
                  </a:cubicBezTo>
                  <a:lnTo>
                    <a:pt x="13068" y="942"/>
                  </a:lnTo>
                  <a:cubicBezTo>
                    <a:pt x="13553" y="1199"/>
                    <a:pt x="14124" y="1199"/>
                    <a:pt x="14580" y="914"/>
                  </a:cubicBezTo>
                  <a:lnTo>
                    <a:pt x="15322" y="486"/>
                  </a:lnTo>
                  <a:cubicBezTo>
                    <a:pt x="15779" y="229"/>
                    <a:pt x="16349" y="229"/>
                    <a:pt x="16806" y="486"/>
                  </a:cubicBezTo>
                  <a:lnTo>
                    <a:pt x="17576" y="914"/>
                  </a:lnTo>
                  <a:cubicBezTo>
                    <a:pt x="18033" y="1170"/>
                    <a:pt x="18603" y="1170"/>
                    <a:pt x="19060" y="885"/>
                  </a:cubicBezTo>
                  <a:lnTo>
                    <a:pt x="19830" y="429"/>
                  </a:lnTo>
                  <a:cubicBezTo>
                    <a:pt x="20287" y="172"/>
                    <a:pt x="20857" y="172"/>
                    <a:pt x="21314" y="429"/>
                  </a:cubicBezTo>
                  <a:lnTo>
                    <a:pt x="22084" y="856"/>
                  </a:lnTo>
                  <a:cubicBezTo>
                    <a:pt x="22541" y="1113"/>
                    <a:pt x="23111" y="1113"/>
                    <a:pt x="23568" y="856"/>
                  </a:cubicBezTo>
                  <a:lnTo>
                    <a:pt x="24338" y="343"/>
                  </a:lnTo>
                  <a:cubicBezTo>
                    <a:pt x="24795" y="58"/>
                    <a:pt x="25365" y="58"/>
                    <a:pt x="25822" y="314"/>
                  </a:cubicBezTo>
                  <a:lnTo>
                    <a:pt x="26592" y="742"/>
                  </a:lnTo>
                  <a:cubicBezTo>
                    <a:pt x="27049" y="999"/>
                    <a:pt x="27619" y="999"/>
                    <a:pt x="28076" y="714"/>
                  </a:cubicBezTo>
                  <a:lnTo>
                    <a:pt x="29246" y="1"/>
                  </a:lnTo>
                </a:path>
              </a:pathLst>
            </a:custGeom>
            <a:noFill/>
            <a:ln cap="rnd" w="14400">
              <a:solidFill>
                <a:srgbClr val="9ba7f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6000" bIns="-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Google Shape;18;p2"/>
            <p:cNvSpPr/>
            <p:nvPr/>
          </p:nvSpPr>
          <p:spPr>
            <a:xfrm>
              <a:off x="-230040" y="4050360"/>
              <a:ext cx="955440" cy="55080"/>
            </a:xfrm>
            <a:custGeom>
              <a:avLst/>
              <a:gdLst/>
              <a:ahLst/>
              <a:rect l="l" t="t" r="r" b="b"/>
              <a:pathLst>
                <a:path fill="none" w="29246" h="1684">
                  <a:moveTo>
                    <a:pt x="0" y="1684"/>
                  </a:moveTo>
                  <a:lnTo>
                    <a:pt x="1798" y="599"/>
                  </a:lnTo>
                  <a:cubicBezTo>
                    <a:pt x="2254" y="343"/>
                    <a:pt x="2825" y="314"/>
                    <a:pt x="3310" y="571"/>
                  </a:cubicBezTo>
                  <a:lnTo>
                    <a:pt x="4080" y="999"/>
                  </a:lnTo>
                  <a:cubicBezTo>
                    <a:pt x="4537" y="1284"/>
                    <a:pt x="5108" y="1284"/>
                    <a:pt x="5564" y="999"/>
                  </a:cubicBezTo>
                  <a:lnTo>
                    <a:pt x="6306" y="571"/>
                  </a:lnTo>
                  <a:cubicBezTo>
                    <a:pt x="6762" y="286"/>
                    <a:pt x="7333" y="286"/>
                    <a:pt x="7818" y="542"/>
                  </a:cubicBezTo>
                  <a:lnTo>
                    <a:pt x="8560" y="970"/>
                  </a:lnTo>
                  <a:cubicBezTo>
                    <a:pt x="9045" y="1227"/>
                    <a:pt x="9616" y="1227"/>
                    <a:pt x="10072" y="942"/>
                  </a:cubicBezTo>
                  <a:lnTo>
                    <a:pt x="10814" y="485"/>
                  </a:lnTo>
                  <a:cubicBezTo>
                    <a:pt x="11271" y="228"/>
                    <a:pt x="11841" y="228"/>
                    <a:pt x="12326" y="485"/>
                  </a:cubicBezTo>
                  <a:lnTo>
                    <a:pt x="13068" y="913"/>
                  </a:lnTo>
                  <a:cubicBezTo>
                    <a:pt x="13553" y="1170"/>
                    <a:pt x="14124" y="1170"/>
                    <a:pt x="14580" y="885"/>
                  </a:cubicBezTo>
                  <a:lnTo>
                    <a:pt x="15322" y="457"/>
                  </a:lnTo>
                  <a:cubicBezTo>
                    <a:pt x="15779" y="171"/>
                    <a:pt x="16349" y="171"/>
                    <a:pt x="16806" y="428"/>
                  </a:cubicBezTo>
                  <a:lnTo>
                    <a:pt x="17576" y="856"/>
                  </a:lnTo>
                  <a:cubicBezTo>
                    <a:pt x="18033" y="1113"/>
                    <a:pt x="18603" y="1113"/>
                    <a:pt x="19088" y="856"/>
                  </a:cubicBezTo>
                  <a:lnTo>
                    <a:pt x="19830" y="400"/>
                  </a:lnTo>
                  <a:cubicBezTo>
                    <a:pt x="20287" y="114"/>
                    <a:pt x="20857" y="114"/>
                    <a:pt x="21314" y="371"/>
                  </a:cubicBezTo>
                  <a:lnTo>
                    <a:pt x="22084" y="799"/>
                  </a:lnTo>
                  <a:cubicBezTo>
                    <a:pt x="22541" y="1056"/>
                    <a:pt x="23111" y="1056"/>
                    <a:pt x="23568" y="771"/>
                  </a:cubicBezTo>
                  <a:lnTo>
                    <a:pt x="24338" y="314"/>
                  </a:lnTo>
                  <a:cubicBezTo>
                    <a:pt x="24795" y="57"/>
                    <a:pt x="25365" y="57"/>
                    <a:pt x="25822" y="314"/>
                  </a:cubicBezTo>
                  <a:lnTo>
                    <a:pt x="26592" y="742"/>
                  </a:lnTo>
                  <a:cubicBezTo>
                    <a:pt x="27049" y="999"/>
                    <a:pt x="27619" y="970"/>
                    <a:pt x="28076" y="714"/>
                  </a:cubicBezTo>
                  <a:lnTo>
                    <a:pt x="29246" y="0"/>
                  </a:lnTo>
                </a:path>
              </a:pathLst>
            </a:custGeom>
            <a:noFill/>
            <a:ln cap="rnd" w="14400">
              <a:solidFill>
                <a:srgbClr val="9ba7f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6000" bIns="-360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oogle Shape;19;p2"/>
          <p:cNvGrpSpPr/>
          <p:nvPr/>
        </p:nvGrpSpPr>
        <p:grpSpPr>
          <a:xfrm>
            <a:off x="7859880" y="2809800"/>
            <a:ext cx="957240" cy="297000"/>
            <a:chOff x="7859880" y="2809800"/>
            <a:chExt cx="957240" cy="297000"/>
          </a:xfrm>
        </p:grpSpPr>
        <p:sp>
          <p:nvSpPr>
            <p:cNvPr id="48" name="Google Shape;20;p2"/>
            <p:cNvSpPr/>
            <p:nvPr/>
          </p:nvSpPr>
          <p:spPr>
            <a:xfrm>
              <a:off x="7859880" y="2809800"/>
              <a:ext cx="957240" cy="53280"/>
            </a:xfrm>
            <a:custGeom>
              <a:avLst/>
              <a:gdLst/>
              <a:ahLst/>
              <a:rect l="l" t="t" r="r" b="b"/>
              <a:pathLst>
                <a:path fill="none" w="29247" h="1628">
                  <a:moveTo>
                    <a:pt x="1" y="1627"/>
                  </a:moveTo>
                  <a:lnTo>
                    <a:pt x="1798" y="543"/>
                  </a:lnTo>
                  <a:cubicBezTo>
                    <a:pt x="2255" y="286"/>
                    <a:pt x="2825" y="258"/>
                    <a:pt x="3282" y="514"/>
                  </a:cubicBezTo>
                  <a:lnTo>
                    <a:pt x="4052" y="942"/>
                  </a:lnTo>
                  <a:cubicBezTo>
                    <a:pt x="4509" y="1199"/>
                    <a:pt x="5079" y="1199"/>
                    <a:pt x="5564" y="914"/>
                  </a:cubicBezTo>
                  <a:lnTo>
                    <a:pt x="6306" y="486"/>
                  </a:lnTo>
                  <a:cubicBezTo>
                    <a:pt x="6763" y="229"/>
                    <a:pt x="7333" y="201"/>
                    <a:pt x="7790" y="457"/>
                  </a:cubicBezTo>
                  <a:lnTo>
                    <a:pt x="8560" y="885"/>
                  </a:lnTo>
                  <a:cubicBezTo>
                    <a:pt x="9017" y="1142"/>
                    <a:pt x="9588" y="1142"/>
                    <a:pt x="10044" y="885"/>
                  </a:cubicBezTo>
                  <a:lnTo>
                    <a:pt x="10814" y="429"/>
                  </a:lnTo>
                  <a:cubicBezTo>
                    <a:pt x="11271" y="172"/>
                    <a:pt x="11842" y="172"/>
                    <a:pt x="12298" y="429"/>
                  </a:cubicBezTo>
                  <a:lnTo>
                    <a:pt x="13068" y="857"/>
                  </a:lnTo>
                  <a:cubicBezTo>
                    <a:pt x="13525" y="1114"/>
                    <a:pt x="14096" y="1114"/>
                    <a:pt x="14552" y="857"/>
                  </a:cubicBezTo>
                  <a:lnTo>
                    <a:pt x="15323" y="400"/>
                  </a:lnTo>
                  <a:cubicBezTo>
                    <a:pt x="15779" y="143"/>
                    <a:pt x="16350" y="115"/>
                    <a:pt x="16806" y="372"/>
                  </a:cubicBezTo>
                  <a:lnTo>
                    <a:pt x="17577" y="800"/>
                  </a:lnTo>
                  <a:cubicBezTo>
                    <a:pt x="18033" y="1085"/>
                    <a:pt x="18604" y="1085"/>
                    <a:pt x="19060" y="800"/>
                  </a:cubicBezTo>
                  <a:lnTo>
                    <a:pt x="19831" y="372"/>
                  </a:lnTo>
                  <a:cubicBezTo>
                    <a:pt x="20287" y="86"/>
                    <a:pt x="20858" y="86"/>
                    <a:pt x="21314" y="343"/>
                  </a:cubicBezTo>
                  <a:lnTo>
                    <a:pt x="22085" y="771"/>
                  </a:lnTo>
                  <a:cubicBezTo>
                    <a:pt x="22541" y="1028"/>
                    <a:pt x="23112" y="1028"/>
                    <a:pt x="23568" y="743"/>
                  </a:cubicBezTo>
                  <a:lnTo>
                    <a:pt x="24310" y="286"/>
                  </a:lnTo>
                  <a:cubicBezTo>
                    <a:pt x="24795" y="29"/>
                    <a:pt x="25366" y="29"/>
                    <a:pt x="25822" y="286"/>
                  </a:cubicBezTo>
                  <a:lnTo>
                    <a:pt x="26593" y="714"/>
                  </a:lnTo>
                  <a:cubicBezTo>
                    <a:pt x="27049" y="971"/>
                    <a:pt x="27620" y="971"/>
                    <a:pt x="28076" y="714"/>
                  </a:cubicBezTo>
                  <a:lnTo>
                    <a:pt x="29246" y="1"/>
                  </a:lnTo>
                </a:path>
              </a:pathLst>
            </a:custGeom>
            <a:noFill/>
            <a:ln cap="rnd" w="14400">
              <a:solidFill>
                <a:srgbClr val="9ba7f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800" bIns="-37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Google Shape;21;p2"/>
            <p:cNvSpPr/>
            <p:nvPr/>
          </p:nvSpPr>
          <p:spPr>
            <a:xfrm>
              <a:off x="7859880" y="2931480"/>
              <a:ext cx="957240" cy="53280"/>
            </a:xfrm>
            <a:custGeom>
              <a:avLst/>
              <a:gdLst/>
              <a:ahLst/>
              <a:rect l="l" t="t" r="r" b="b"/>
              <a:pathLst>
                <a:path fill="none" w="29247" h="1628">
                  <a:moveTo>
                    <a:pt x="1" y="1627"/>
                  </a:moveTo>
                  <a:lnTo>
                    <a:pt x="1798" y="543"/>
                  </a:lnTo>
                  <a:cubicBezTo>
                    <a:pt x="2255" y="286"/>
                    <a:pt x="2825" y="286"/>
                    <a:pt x="3282" y="543"/>
                  </a:cubicBezTo>
                  <a:lnTo>
                    <a:pt x="4052" y="971"/>
                  </a:lnTo>
                  <a:cubicBezTo>
                    <a:pt x="4509" y="1228"/>
                    <a:pt x="5079" y="1228"/>
                    <a:pt x="5564" y="971"/>
                  </a:cubicBezTo>
                  <a:lnTo>
                    <a:pt x="6306" y="515"/>
                  </a:lnTo>
                  <a:cubicBezTo>
                    <a:pt x="6763" y="229"/>
                    <a:pt x="7333" y="229"/>
                    <a:pt x="7790" y="486"/>
                  </a:cubicBezTo>
                  <a:lnTo>
                    <a:pt x="8560" y="914"/>
                  </a:lnTo>
                  <a:cubicBezTo>
                    <a:pt x="9017" y="1171"/>
                    <a:pt x="9588" y="1171"/>
                    <a:pt x="10044" y="885"/>
                  </a:cubicBezTo>
                  <a:lnTo>
                    <a:pt x="10814" y="457"/>
                  </a:lnTo>
                  <a:cubicBezTo>
                    <a:pt x="11271" y="172"/>
                    <a:pt x="11842" y="172"/>
                    <a:pt x="12298" y="457"/>
                  </a:cubicBezTo>
                  <a:lnTo>
                    <a:pt x="13068" y="885"/>
                  </a:lnTo>
                  <a:cubicBezTo>
                    <a:pt x="13525" y="1142"/>
                    <a:pt x="14096" y="1114"/>
                    <a:pt x="14552" y="857"/>
                  </a:cubicBezTo>
                  <a:lnTo>
                    <a:pt x="15323" y="400"/>
                  </a:lnTo>
                  <a:cubicBezTo>
                    <a:pt x="15779" y="144"/>
                    <a:pt x="16350" y="144"/>
                    <a:pt x="16806" y="400"/>
                  </a:cubicBezTo>
                  <a:lnTo>
                    <a:pt x="17577" y="800"/>
                  </a:lnTo>
                  <a:cubicBezTo>
                    <a:pt x="18033" y="1085"/>
                    <a:pt x="18604" y="1085"/>
                    <a:pt x="19060" y="800"/>
                  </a:cubicBezTo>
                  <a:lnTo>
                    <a:pt x="19831" y="372"/>
                  </a:lnTo>
                  <a:cubicBezTo>
                    <a:pt x="20287" y="87"/>
                    <a:pt x="20858" y="87"/>
                    <a:pt x="21314" y="343"/>
                  </a:cubicBezTo>
                  <a:lnTo>
                    <a:pt x="22085" y="771"/>
                  </a:lnTo>
                  <a:cubicBezTo>
                    <a:pt x="22541" y="1028"/>
                    <a:pt x="23112" y="1028"/>
                    <a:pt x="23568" y="743"/>
                  </a:cubicBezTo>
                  <a:lnTo>
                    <a:pt x="24310" y="315"/>
                  </a:lnTo>
                  <a:cubicBezTo>
                    <a:pt x="24795" y="29"/>
                    <a:pt x="25366" y="29"/>
                    <a:pt x="25822" y="315"/>
                  </a:cubicBezTo>
                  <a:lnTo>
                    <a:pt x="26593" y="743"/>
                  </a:lnTo>
                  <a:cubicBezTo>
                    <a:pt x="27049" y="1000"/>
                    <a:pt x="27620" y="971"/>
                    <a:pt x="28076" y="714"/>
                  </a:cubicBezTo>
                  <a:lnTo>
                    <a:pt x="29246" y="1"/>
                  </a:lnTo>
                </a:path>
              </a:pathLst>
            </a:custGeom>
            <a:noFill/>
            <a:ln cap="rnd" w="14400">
              <a:solidFill>
                <a:srgbClr val="9ba7f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7800" bIns="-37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Google Shape;22;p2"/>
            <p:cNvSpPr/>
            <p:nvPr/>
          </p:nvSpPr>
          <p:spPr>
            <a:xfrm>
              <a:off x="7859880" y="3052440"/>
              <a:ext cx="957240" cy="54360"/>
            </a:xfrm>
            <a:custGeom>
              <a:avLst/>
              <a:gdLst/>
              <a:ahLst/>
              <a:rect l="l" t="t" r="r" b="b"/>
              <a:pathLst>
                <a:path fill="none" w="29247" h="1656">
                  <a:moveTo>
                    <a:pt x="1" y="1655"/>
                  </a:moveTo>
                  <a:lnTo>
                    <a:pt x="1798" y="600"/>
                  </a:lnTo>
                  <a:cubicBezTo>
                    <a:pt x="2255" y="314"/>
                    <a:pt x="2825" y="314"/>
                    <a:pt x="3282" y="571"/>
                  </a:cubicBezTo>
                  <a:lnTo>
                    <a:pt x="4052" y="999"/>
                  </a:lnTo>
                  <a:cubicBezTo>
                    <a:pt x="4509" y="1256"/>
                    <a:pt x="5079" y="1256"/>
                    <a:pt x="5564" y="971"/>
                  </a:cubicBezTo>
                  <a:lnTo>
                    <a:pt x="6306" y="543"/>
                  </a:lnTo>
                  <a:cubicBezTo>
                    <a:pt x="6763" y="257"/>
                    <a:pt x="7333" y="257"/>
                    <a:pt x="7790" y="514"/>
                  </a:cubicBezTo>
                  <a:lnTo>
                    <a:pt x="8560" y="942"/>
                  </a:lnTo>
                  <a:cubicBezTo>
                    <a:pt x="9017" y="1199"/>
                    <a:pt x="9588" y="1199"/>
                    <a:pt x="10044" y="914"/>
                  </a:cubicBezTo>
                  <a:lnTo>
                    <a:pt x="10814" y="457"/>
                  </a:lnTo>
                  <a:cubicBezTo>
                    <a:pt x="11271" y="200"/>
                    <a:pt x="11842" y="200"/>
                    <a:pt x="12298" y="457"/>
                  </a:cubicBezTo>
                  <a:lnTo>
                    <a:pt x="13068" y="885"/>
                  </a:lnTo>
                  <a:cubicBezTo>
                    <a:pt x="13525" y="1142"/>
                    <a:pt x="14096" y="1113"/>
                    <a:pt x="14552" y="857"/>
                  </a:cubicBezTo>
                  <a:lnTo>
                    <a:pt x="15323" y="400"/>
                  </a:lnTo>
                  <a:cubicBezTo>
                    <a:pt x="15779" y="143"/>
                    <a:pt x="16350" y="143"/>
                    <a:pt x="16806" y="400"/>
                  </a:cubicBezTo>
                  <a:lnTo>
                    <a:pt x="17577" y="828"/>
                  </a:lnTo>
                  <a:cubicBezTo>
                    <a:pt x="18033" y="1085"/>
                    <a:pt x="18604" y="1056"/>
                    <a:pt x="19060" y="799"/>
                  </a:cubicBezTo>
                  <a:lnTo>
                    <a:pt x="19831" y="343"/>
                  </a:lnTo>
                  <a:cubicBezTo>
                    <a:pt x="20287" y="86"/>
                    <a:pt x="20858" y="86"/>
                    <a:pt x="21314" y="343"/>
                  </a:cubicBezTo>
                  <a:lnTo>
                    <a:pt x="22085" y="771"/>
                  </a:lnTo>
                  <a:cubicBezTo>
                    <a:pt x="22541" y="1028"/>
                    <a:pt x="23112" y="1028"/>
                    <a:pt x="23568" y="742"/>
                  </a:cubicBezTo>
                  <a:lnTo>
                    <a:pt x="24310" y="314"/>
                  </a:lnTo>
                  <a:cubicBezTo>
                    <a:pt x="24767" y="29"/>
                    <a:pt x="25337" y="29"/>
                    <a:pt x="25822" y="286"/>
                  </a:cubicBezTo>
                  <a:lnTo>
                    <a:pt x="26593" y="714"/>
                  </a:lnTo>
                  <a:cubicBezTo>
                    <a:pt x="27049" y="971"/>
                    <a:pt x="27620" y="971"/>
                    <a:pt x="28076" y="714"/>
                  </a:cubicBezTo>
                  <a:lnTo>
                    <a:pt x="29246" y="1"/>
                  </a:lnTo>
                </a:path>
              </a:pathLst>
            </a:custGeom>
            <a:noFill/>
            <a:ln cap="rnd" w="14400">
              <a:solidFill>
                <a:srgbClr val="9ba7f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-36720" bIns="-3672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Google Shape;23;p2" descr=""/>
          <p:cNvPicPr/>
          <p:nvPr/>
        </p:nvPicPr>
        <p:blipFill>
          <a:blip r:embed="rId4"/>
          <a:stretch/>
        </p:blipFill>
        <p:spPr>
          <a:xfrm>
            <a:off x="7461360" y="-1079640"/>
            <a:ext cx="2554200" cy="2633760"/>
          </a:xfrm>
          <a:prstGeom prst="rect">
            <a:avLst/>
          </a:prstGeom>
          <a:ln w="0">
            <a:noFill/>
          </a:ln>
        </p:spPr>
      </p:pic>
      <p:pic>
        <p:nvPicPr>
          <p:cNvPr id="52" name="Google Shape;24;p2" descr=""/>
          <p:cNvPicPr/>
          <p:nvPr/>
        </p:nvPicPr>
        <p:blipFill>
          <a:blip r:embed="rId5"/>
          <a:stretch/>
        </p:blipFill>
        <p:spPr>
          <a:xfrm>
            <a:off x="4454640" y="-1081080"/>
            <a:ext cx="1726920" cy="1477800"/>
          </a:xfrm>
          <a:prstGeom prst="rect">
            <a:avLst/>
          </a:prstGeom>
          <a:ln w="0">
            <a:noFill/>
          </a:ln>
        </p:spPr>
      </p:pic>
      <p:pic>
        <p:nvPicPr>
          <p:cNvPr id="53" name="Google Shape;25;p2" descr=""/>
          <p:cNvPicPr/>
          <p:nvPr/>
        </p:nvPicPr>
        <p:blipFill>
          <a:blip r:embed="rId6"/>
          <a:srcRect l="6768" t="5600" r="0" b="3706"/>
          <a:stretch/>
        </p:blipFill>
        <p:spPr>
          <a:xfrm>
            <a:off x="7567560" y="3087720"/>
            <a:ext cx="3292560" cy="2890800"/>
          </a:xfrm>
          <a:prstGeom prst="rect">
            <a:avLst/>
          </a:prstGeom>
          <a:ln w="0">
            <a:noFill/>
          </a:ln>
        </p:spPr>
      </p:pic>
      <p:pic>
        <p:nvPicPr>
          <p:cNvPr id="54" name="Google Shape;26;p2" descr=""/>
          <p:cNvPicPr/>
          <p:nvPr/>
        </p:nvPicPr>
        <p:blipFill>
          <a:blip r:embed="rId7"/>
          <a:stretch/>
        </p:blipFill>
        <p:spPr>
          <a:xfrm>
            <a:off x="2392200" y="4745160"/>
            <a:ext cx="1393920" cy="1199880"/>
          </a:xfrm>
          <a:prstGeom prst="rect">
            <a:avLst/>
          </a:prstGeom>
          <a:ln w="0">
            <a:noFill/>
          </a:ln>
        </p:spPr>
      </p:pic>
      <p:pic>
        <p:nvPicPr>
          <p:cNvPr id="55" name="Google Shape;27;p2" descr=""/>
          <p:cNvPicPr/>
          <p:nvPr/>
        </p:nvPicPr>
        <p:blipFill>
          <a:blip r:embed="rId8"/>
          <a:stretch/>
        </p:blipFill>
        <p:spPr>
          <a:xfrm>
            <a:off x="1474920" y="4022640"/>
            <a:ext cx="366480" cy="403200"/>
          </a:xfrm>
          <a:prstGeom prst="rect">
            <a:avLst/>
          </a:prstGeom>
          <a:ln w="0">
            <a:noFill/>
          </a:ln>
        </p:spPr>
      </p:pic>
      <p:pic>
        <p:nvPicPr>
          <p:cNvPr id="56" name="Google Shape;28;p2" descr=""/>
          <p:cNvPicPr/>
          <p:nvPr/>
        </p:nvPicPr>
        <p:blipFill>
          <a:blip r:embed="rId9"/>
          <a:stretch/>
        </p:blipFill>
        <p:spPr>
          <a:xfrm>
            <a:off x="-944640" y="4340160"/>
            <a:ext cx="2230560" cy="201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3" descr=""/>
          <p:cNvPicPr/>
          <p:nvPr/>
        </p:nvPicPr>
        <p:blipFill>
          <a:blip r:embed="rId10"/>
          <a:stretch/>
        </p:blipFill>
        <p:spPr>
          <a:xfrm>
            <a:off x="8637480" y="4222800"/>
            <a:ext cx="506520" cy="444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42880" indent="-199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923760" indent="-237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95280" indent="-266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638360" indent="-266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638360" indent="-266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638360" indent="-266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7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Google Shape;610;p38" descr=""/>
          <p:cNvPicPr/>
          <p:nvPr/>
        </p:nvPicPr>
        <p:blipFill>
          <a:blip r:embed="rId2"/>
          <a:stretch/>
        </p:blipFill>
        <p:spPr>
          <a:xfrm>
            <a:off x="6802560" y="3627360"/>
            <a:ext cx="1092240" cy="1200240"/>
          </a:xfrm>
          <a:prstGeom prst="rect">
            <a:avLst/>
          </a:prstGeom>
          <a:ln w="0">
            <a:noFill/>
          </a:ln>
        </p:spPr>
      </p:pic>
      <p:pic>
        <p:nvPicPr>
          <p:cNvPr id="97" name="Google Shape;614;p38" descr=""/>
          <p:cNvPicPr/>
          <p:nvPr/>
        </p:nvPicPr>
        <p:blipFill>
          <a:blip r:embed="rId3"/>
          <a:stretch/>
        </p:blipFill>
        <p:spPr>
          <a:xfrm>
            <a:off x="3870360" y="4095720"/>
            <a:ext cx="274680" cy="30492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5"/>
          <p:cNvGrpSpPr/>
          <p:nvPr/>
        </p:nvGrpSpPr>
        <p:grpSpPr>
          <a:xfrm>
            <a:off x="7273800" y="-573120"/>
            <a:ext cx="2100240" cy="1554120"/>
            <a:chOff x="7273800" y="-573120"/>
            <a:chExt cx="2100240" cy="1554120"/>
          </a:xfrm>
        </p:grpSpPr>
        <p:grpSp>
          <p:nvGrpSpPr>
            <p:cNvPr id="99" name="Oval 15"/>
            <p:cNvGrpSpPr/>
            <p:nvPr/>
          </p:nvGrpSpPr>
          <p:grpSpPr>
            <a:xfrm>
              <a:off x="7273800" y="-573120"/>
              <a:ext cx="2100240" cy="1554120"/>
              <a:chOff x="7273800" y="-573120"/>
              <a:chExt cx="2100240" cy="1554120"/>
            </a:xfrm>
          </p:grpSpPr>
          <p:pic>
            <p:nvPicPr>
              <p:cNvPr id="100" name="Oval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7273800" y="-573120"/>
                <a:ext cx="2100240" cy="155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7623000" y="-332640"/>
                <a:ext cx="1401840" cy="10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2" name="Picture 1" descr=""/>
            <p:cNvPicPr/>
            <p:nvPr/>
          </p:nvPicPr>
          <p:blipFill>
            <a:blip r:embed="rId5"/>
            <a:stretch/>
          </p:blipFill>
          <p:spPr>
            <a:xfrm>
              <a:off x="7661880" y="130680"/>
              <a:ext cx="1240560" cy="39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4-Point Star 3"/>
          <p:cNvSpPr/>
          <p:nvPr/>
        </p:nvSpPr>
        <p:spPr>
          <a:xfrm>
            <a:off x="789120" y="630360"/>
            <a:ext cx="339480" cy="350640"/>
          </a:xfrm>
          <a:custGeom>
            <a:avLst/>
            <a:gdLst>
              <a:gd name="textAreaLeft" fmla="*/ 139680 w 339480"/>
              <a:gd name="textAreaRight" fmla="*/ 199800 w 339480"/>
              <a:gd name="textAreaTop" fmla="*/ 144360 h 350640"/>
              <a:gd name="textAreaBottom" fmla="*/ 206280 h 350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29ba9f"/>
          </a:solidFill>
          <a:ln w="2556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6"/>
          <a:stretch/>
        </p:blipFill>
        <p:spPr>
          <a:xfrm>
            <a:off x="1433520" y="2112840"/>
            <a:ext cx="3668760" cy="2446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7"/>
          <a:stretch/>
        </p:blipFill>
        <p:spPr>
          <a:xfrm>
            <a:off x="4148280" y="1916280"/>
            <a:ext cx="1990440" cy="1989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3"/>
          <p:cNvSpPr/>
          <p:nvPr/>
        </p:nvSpPr>
        <p:spPr>
          <a:xfrm>
            <a:off x="789120" y="1174680"/>
            <a:ext cx="7346880" cy="58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Bell MT"/>
              </a:rPr>
              <a:t>Azoospermia: W</a:t>
            </a:r>
            <a:r>
              <a:rPr b="1" lang="en-US" sz="1600" spc="-1" strike="noStrike">
                <a:solidFill>
                  <a:srgbClr val="000000"/>
                </a:solidFill>
                <a:latin typeface="Bell MT"/>
              </a:rPr>
              <a:t>hen there is no sperm in the semen, can </a:t>
            </a:r>
            <a:r>
              <a:rPr b="0" lang="en-US" sz="1600" spc="-1" strike="noStrike">
                <a:solidFill>
                  <a:srgbClr val="000000"/>
                </a:solidFill>
                <a:latin typeface="Bell MT"/>
              </a:rPr>
              <a:t>we</a:t>
            </a:r>
            <a:r>
              <a:rPr b="1" lang="en-US" sz="1600" spc="-1" strike="noStrike">
                <a:solidFill>
                  <a:srgbClr val="000000"/>
                </a:solidFill>
                <a:latin typeface="Bell MT"/>
              </a:rPr>
              <a:t> still have a baby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1"/>
          <p:cNvSpPr/>
          <p:nvPr/>
        </p:nvSpPr>
        <p:spPr>
          <a:xfrm>
            <a:off x="5219640" y="2036880"/>
            <a:ext cx="2989440" cy="1463400"/>
          </a:xfrm>
          <a:prstGeom prst="rect">
            <a:avLst/>
          </a:prstGeom>
          <a:gradFill rotWithShape="0">
            <a:gsLst>
              <a:gs pos="0">
                <a:srgbClr val="8af3c7"/>
              </a:gs>
              <a:gs pos="100000">
                <a:srgbClr val="ddfae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entury Gothic"/>
                <a:ea typeface="Arial"/>
              </a:rPr>
              <a:t>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Century Gothic"/>
                <a:ea typeface="Arial"/>
              </a:rPr>
              <a:t>Addr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  <a:ea typeface="Arial"/>
              </a:rPr>
              <a:t>Renaissance, J.M. Road, Pune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  <a:ea typeface="Arial"/>
              </a:rPr>
              <a:t>   </a:t>
            </a:r>
            <a:r>
              <a:rPr b="0" lang="en-US" sz="1500" spc="-1" strike="noStrike">
                <a:solidFill>
                  <a:srgbClr val="000000"/>
                </a:solidFill>
                <a:latin typeface="Century Gothic"/>
                <a:ea typeface="Arial"/>
              </a:rPr>
              <a:t>Maharashtra, India- 411004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  <a:ea typeface="Arial"/>
              </a:rPr>
              <a:t>www.yashivf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7" descr="Picture 27"/>
          <p:cNvPicPr/>
          <p:nvPr/>
        </p:nvPicPr>
        <p:blipFill>
          <a:blip r:embed="rId1"/>
          <a:stretch/>
        </p:blipFill>
        <p:spPr>
          <a:xfrm>
            <a:off x="5999040" y="1301760"/>
            <a:ext cx="1432080" cy="458640"/>
          </a:xfrm>
          <a:prstGeom prst="rect">
            <a:avLst/>
          </a:prstGeom>
          <a:ln w="0">
            <a:noFill/>
          </a:ln>
        </p:spPr>
      </p:pic>
      <p:grpSp>
        <p:nvGrpSpPr>
          <p:cNvPr id="214" name="Group 1"/>
          <p:cNvGrpSpPr/>
          <p:nvPr/>
        </p:nvGrpSpPr>
        <p:grpSpPr>
          <a:xfrm>
            <a:off x="5514840" y="3952800"/>
            <a:ext cx="2400480" cy="434520"/>
            <a:chOff x="5514840" y="3952800"/>
            <a:chExt cx="2400480" cy="434520"/>
          </a:xfrm>
        </p:grpSpPr>
        <p:pic>
          <p:nvPicPr>
            <p:cNvPr id="215" name="Picture 26" descr="Picture 26"/>
            <p:cNvPicPr/>
            <p:nvPr/>
          </p:nvPicPr>
          <p:blipFill>
            <a:blip r:embed="rId2"/>
            <a:stretch/>
          </p:blipFill>
          <p:spPr>
            <a:xfrm>
              <a:off x="5514840" y="4022640"/>
              <a:ext cx="27612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TextBox 25"/>
            <p:cNvSpPr/>
            <p:nvPr/>
          </p:nvSpPr>
          <p:spPr>
            <a:xfrm>
              <a:off x="5827680" y="3952800"/>
              <a:ext cx="208764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4200" rIns="3420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020 719667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Picture 6" descr=""/>
          <p:cNvPicPr/>
          <p:nvPr/>
        </p:nvPicPr>
        <p:blipFill>
          <a:blip r:embed="rId3"/>
          <a:stretch/>
        </p:blipFill>
        <p:spPr>
          <a:xfrm>
            <a:off x="1139760" y="1994040"/>
            <a:ext cx="3024360" cy="4005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3"/>
          <p:cNvSpPr/>
          <p:nvPr/>
        </p:nvSpPr>
        <p:spPr>
          <a:xfrm>
            <a:off x="689040" y="1112760"/>
            <a:ext cx="4278240" cy="642600"/>
          </a:xfrm>
          <a:prstGeom prst="rect">
            <a:avLst/>
          </a:prstGeom>
          <a:solidFill>
            <a:srgbClr val="eac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Contact Us To Begin Your Journey To </a:t>
            </a:r>
            <a:r>
              <a:rPr b="0" lang="en-GB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Parenthood</a:t>
            </a:r>
            <a:r>
              <a:rPr b="0" lang="en-IN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 Gothic"/>
                <a:ea typeface="Arial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4"/>
          <a:stretch/>
        </p:blipFill>
        <p:spPr>
          <a:xfrm>
            <a:off x="6292800" y="3110040"/>
            <a:ext cx="843120" cy="842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7" descr="Picture 27"/>
          <p:cNvPicPr/>
          <p:nvPr/>
        </p:nvPicPr>
        <p:blipFill>
          <a:blip r:embed="rId5"/>
          <a:stretch/>
        </p:blipFill>
        <p:spPr>
          <a:xfrm>
            <a:off x="8080200" y="96840"/>
            <a:ext cx="1159200" cy="37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19"/>
          <p:cNvGrpSpPr/>
          <p:nvPr/>
        </p:nvGrpSpPr>
        <p:grpSpPr>
          <a:xfrm>
            <a:off x="303120" y="4635360"/>
            <a:ext cx="1837440" cy="343080"/>
            <a:chOff x="303120" y="4635360"/>
            <a:chExt cx="1837440" cy="343080"/>
          </a:xfrm>
        </p:grpSpPr>
        <p:sp>
          <p:nvSpPr>
            <p:cNvPr id="108" name="TextBox 20"/>
            <p:cNvSpPr/>
            <p:nvPr/>
          </p:nvSpPr>
          <p:spPr>
            <a:xfrm>
              <a:off x="570240" y="4635360"/>
              <a:ext cx="15703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020 719667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21" descr="Picture 21"/>
            <p:cNvPicPr/>
            <p:nvPr/>
          </p:nvPicPr>
          <p:blipFill>
            <a:blip r:embed="rId1"/>
            <a:stretch/>
          </p:blipFill>
          <p:spPr>
            <a:xfrm>
              <a:off x="303120" y="4698000"/>
              <a:ext cx="228600" cy="2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Rectangle 4"/>
          <p:cNvSpPr/>
          <p:nvPr/>
        </p:nvSpPr>
        <p:spPr>
          <a:xfrm>
            <a:off x="3754440" y="1589040"/>
            <a:ext cx="4433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3244680" y="830160"/>
            <a:ext cx="569304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he case of azoospermia which is semen without sperm is one such conc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1% of the male population suffers from Azoospermia. It is a great infertility concern and accounts for 10-15% of all infertile 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zoospermia is suspected when no pregnancy has occurred after a year of unprotected sex and a semen analysis test reports no spe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Azoospermia can be due to sperm production defects due to hormonal issues or genetic probl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" descr=""/>
          <p:cNvPicPr/>
          <p:nvPr/>
        </p:nvPicPr>
        <p:blipFill>
          <a:blip r:embed="rId2"/>
          <a:stretch/>
        </p:blipFill>
        <p:spPr>
          <a:xfrm>
            <a:off x="531720" y="633240"/>
            <a:ext cx="505080" cy="4446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"/>
          <p:cNvGrpSpPr/>
          <p:nvPr/>
        </p:nvGrpSpPr>
        <p:grpSpPr>
          <a:xfrm>
            <a:off x="7273800" y="-573120"/>
            <a:ext cx="2100240" cy="1554120"/>
            <a:chOff x="7273800" y="-573120"/>
            <a:chExt cx="2100240" cy="1554120"/>
          </a:xfrm>
        </p:grpSpPr>
        <p:grpSp>
          <p:nvGrpSpPr>
            <p:cNvPr id="114" name="Oval 2"/>
            <p:cNvGrpSpPr/>
            <p:nvPr/>
          </p:nvGrpSpPr>
          <p:grpSpPr>
            <a:xfrm>
              <a:off x="7273800" y="-573120"/>
              <a:ext cx="2100240" cy="1554120"/>
              <a:chOff x="7273800" y="-573120"/>
              <a:chExt cx="2100240" cy="1554120"/>
            </a:xfrm>
          </p:grpSpPr>
          <p:pic>
            <p:nvPicPr>
              <p:cNvPr id="115" name="Oval 2" descr=""/>
              <p:cNvPicPr/>
              <p:nvPr/>
            </p:nvPicPr>
            <p:blipFill>
              <a:blip r:embed="rId3"/>
              <a:stretch/>
            </p:blipFill>
            <p:spPr>
              <a:xfrm>
                <a:off x="7273800" y="-573120"/>
                <a:ext cx="2100240" cy="155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7623000" y="-332640"/>
                <a:ext cx="1401840" cy="10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7" name="Picture 1" descr=""/>
            <p:cNvPicPr/>
            <p:nvPr/>
          </p:nvPicPr>
          <p:blipFill>
            <a:blip r:embed="rId4"/>
            <a:stretch/>
          </p:blipFill>
          <p:spPr>
            <a:xfrm>
              <a:off x="7661880" y="130680"/>
              <a:ext cx="1240560" cy="39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Rectangle 3"/>
          <p:cNvSpPr/>
          <p:nvPr/>
        </p:nvSpPr>
        <p:spPr>
          <a:xfrm>
            <a:off x="2533680" y="392040"/>
            <a:ext cx="1422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zoosper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781200" y="1500120"/>
            <a:ext cx="2296800" cy="22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0"/>
          <p:cNvGrpSpPr/>
          <p:nvPr/>
        </p:nvGrpSpPr>
        <p:grpSpPr>
          <a:xfrm>
            <a:off x="303120" y="4635360"/>
            <a:ext cx="1837440" cy="343080"/>
            <a:chOff x="303120" y="4635360"/>
            <a:chExt cx="1837440" cy="343080"/>
          </a:xfrm>
        </p:grpSpPr>
        <p:sp>
          <p:nvSpPr>
            <p:cNvPr id="121" name="TextBox 25"/>
            <p:cNvSpPr/>
            <p:nvPr/>
          </p:nvSpPr>
          <p:spPr>
            <a:xfrm>
              <a:off x="570240" y="4635360"/>
              <a:ext cx="15703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020 719667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26" descr="Picture 26"/>
            <p:cNvPicPr/>
            <p:nvPr/>
          </p:nvPicPr>
          <p:blipFill>
            <a:blip r:embed="rId1"/>
            <a:stretch/>
          </p:blipFill>
          <p:spPr>
            <a:xfrm>
              <a:off x="303120" y="4698000"/>
              <a:ext cx="228600" cy="212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8047080" y="1314360"/>
            <a:ext cx="506520" cy="444600"/>
          </a:xfrm>
          <a:prstGeom prst="rect">
            <a:avLst/>
          </a:prstGeom>
          <a:ln w="0">
            <a:noFill/>
          </a:ln>
        </p:spPr>
      </p:pic>
      <p:grpSp>
        <p:nvGrpSpPr>
          <p:cNvPr id="124" name="Group 2"/>
          <p:cNvGrpSpPr/>
          <p:nvPr/>
        </p:nvGrpSpPr>
        <p:grpSpPr>
          <a:xfrm>
            <a:off x="7273800" y="-573120"/>
            <a:ext cx="2100240" cy="1554120"/>
            <a:chOff x="7273800" y="-573120"/>
            <a:chExt cx="2100240" cy="1554120"/>
          </a:xfrm>
        </p:grpSpPr>
        <p:grpSp>
          <p:nvGrpSpPr>
            <p:cNvPr id="125" name="Oval 3"/>
            <p:cNvGrpSpPr/>
            <p:nvPr/>
          </p:nvGrpSpPr>
          <p:grpSpPr>
            <a:xfrm>
              <a:off x="7273800" y="-573120"/>
              <a:ext cx="2100240" cy="1554120"/>
              <a:chOff x="7273800" y="-573120"/>
              <a:chExt cx="2100240" cy="1554120"/>
            </a:xfrm>
          </p:grpSpPr>
          <p:pic>
            <p:nvPicPr>
              <p:cNvPr id="126" name="Oval 3" descr=""/>
              <p:cNvPicPr/>
              <p:nvPr/>
            </p:nvPicPr>
            <p:blipFill>
              <a:blip r:embed="rId3"/>
              <a:stretch/>
            </p:blipFill>
            <p:spPr>
              <a:xfrm>
                <a:off x="7273800" y="-573120"/>
                <a:ext cx="2100240" cy="155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>
                <a:off x="7623000" y="-332640"/>
                <a:ext cx="1401840" cy="10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8" name="Picture 1" descr=""/>
            <p:cNvPicPr/>
            <p:nvPr/>
          </p:nvPicPr>
          <p:blipFill>
            <a:blip r:embed="rId4"/>
            <a:stretch/>
          </p:blipFill>
          <p:spPr>
            <a:xfrm>
              <a:off x="7661880" y="130680"/>
              <a:ext cx="1240560" cy="39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Rectangle 1"/>
          <p:cNvSpPr/>
          <p:nvPr/>
        </p:nvSpPr>
        <p:spPr>
          <a:xfrm>
            <a:off x="531720" y="1420920"/>
            <a:ext cx="42084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ability to conceive is the biggest indication, Difficulties with ejaculation or erectio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ow sex drive, Pain and sw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ump in the testicle area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ormonal issues (i.e. abnormal breast growth, loss of facial or body hai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639800" y="577800"/>
            <a:ext cx="51976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re there any specific symptoms of male infertil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5"/>
          <a:stretch/>
        </p:blipFill>
        <p:spPr>
          <a:xfrm>
            <a:off x="5072040" y="1633680"/>
            <a:ext cx="2822760" cy="19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7"/>
          <p:cNvSpPr/>
          <p:nvPr/>
        </p:nvSpPr>
        <p:spPr>
          <a:xfrm>
            <a:off x="3321000" y="1627200"/>
            <a:ext cx="53499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4200" rIns="342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For diagnosing Azoospermia, semen analysis is mandator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While a man may be able to produce semen, sperm cells may not be present in 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A single semen analysis report mentioning Azoospermia, however, cannot be the sole diagnosis on which, Azoospermia can be confirm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e patient is recommended to repeat the semen analysis after a couple of weeks at a standardized laboratory to confirm azoosperm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1860480" y="1011240"/>
            <a:ext cx="1857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9"/>
          <p:cNvGrpSpPr/>
          <p:nvPr/>
        </p:nvGrpSpPr>
        <p:grpSpPr>
          <a:xfrm>
            <a:off x="303120" y="4635360"/>
            <a:ext cx="1837440" cy="343080"/>
            <a:chOff x="303120" y="4635360"/>
            <a:chExt cx="1837440" cy="343080"/>
          </a:xfrm>
        </p:grpSpPr>
        <p:sp>
          <p:nvSpPr>
            <p:cNvPr id="135" name="TextBox 20"/>
            <p:cNvSpPr/>
            <p:nvPr/>
          </p:nvSpPr>
          <p:spPr>
            <a:xfrm>
              <a:off x="570240" y="4635360"/>
              <a:ext cx="15703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020 719667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21" descr="Picture 21"/>
            <p:cNvPicPr/>
            <p:nvPr/>
          </p:nvPicPr>
          <p:blipFill>
            <a:blip r:embed="rId1"/>
            <a:stretch/>
          </p:blipFill>
          <p:spPr>
            <a:xfrm>
              <a:off x="303120" y="4698000"/>
              <a:ext cx="228600" cy="2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Rectangle 3"/>
          <p:cNvSpPr/>
          <p:nvPr/>
        </p:nvSpPr>
        <p:spPr>
          <a:xfrm>
            <a:off x="1001880" y="512640"/>
            <a:ext cx="5159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2"/>
          <a:stretch/>
        </p:blipFill>
        <p:spPr>
          <a:xfrm>
            <a:off x="8670960" y="1498680"/>
            <a:ext cx="458640" cy="4176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2"/>
          <p:cNvGrpSpPr/>
          <p:nvPr/>
        </p:nvGrpSpPr>
        <p:grpSpPr>
          <a:xfrm>
            <a:off x="7273800" y="-573120"/>
            <a:ext cx="2100240" cy="1554120"/>
            <a:chOff x="7273800" y="-573120"/>
            <a:chExt cx="2100240" cy="1554120"/>
          </a:xfrm>
        </p:grpSpPr>
        <p:grpSp>
          <p:nvGrpSpPr>
            <p:cNvPr id="140" name="Oval 4"/>
            <p:cNvGrpSpPr/>
            <p:nvPr/>
          </p:nvGrpSpPr>
          <p:grpSpPr>
            <a:xfrm>
              <a:off x="7273800" y="-573120"/>
              <a:ext cx="2100240" cy="1554120"/>
              <a:chOff x="7273800" y="-573120"/>
              <a:chExt cx="2100240" cy="1554120"/>
            </a:xfrm>
          </p:grpSpPr>
          <p:pic>
            <p:nvPicPr>
              <p:cNvPr id="141" name="Oval 4" descr=""/>
              <p:cNvPicPr/>
              <p:nvPr/>
            </p:nvPicPr>
            <p:blipFill>
              <a:blip r:embed="rId3"/>
              <a:stretch/>
            </p:blipFill>
            <p:spPr>
              <a:xfrm>
                <a:off x="7273800" y="-573120"/>
                <a:ext cx="2100240" cy="155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7623000" y="-332640"/>
                <a:ext cx="1401840" cy="10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3" name="Picture 1" descr=""/>
            <p:cNvPicPr/>
            <p:nvPr/>
          </p:nvPicPr>
          <p:blipFill>
            <a:blip r:embed="rId4"/>
            <a:stretch/>
          </p:blipFill>
          <p:spPr>
            <a:xfrm>
              <a:off x="7661880" y="130680"/>
              <a:ext cx="1240560" cy="39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Rectangle 3"/>
          <p:cNvSpPr/>
          <p:nvPr/>
        </p:nvSpPr>
        <p:spPr>
          <a:xfrm>
            <a:off x="1138320" y="577800"/>
            <a:ext cx="6048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n a single semen analysis report mentioning Azoospermia is a sole diagnos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5"/>
          <a:stretch/>
        </p:blipFill>
        <p:spPr>
          <a:xfrm>
            <a:off x="549360" y="303120"/>
            <a:ext cx="458640" cy="4161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6"/>
          <a:stretch/>
        </p:blipFill>
        <p:spPr>
          <a:xfrm>
            <a:off x="596880" y="1511280"/>
            <a:ext cx="2530440" cy="25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"/>
          <p:cNvSpPr/>
          <p:nvPr/>
        </p:nvSpPr>
        <p:spPr>
          <a:xfrm>
            <a:off x="3276720" y="2300400"/>
            <a:ext cx="4857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9"/>
          <p:cNvGrpSpPr/>
          <p:nvPr/>
        </p:nvGrpSpPr>
        <p:grpSpPr>
          <a:xfrm>
            <a:off x="303120" y="4635360"/>
            <a:ext cx="1837440" cy="343080"/>
            <a:chOff x="303120" y="4635360"/>
            <a:chExt cx="1837440" cy="343080"/>
          </a:xfrm>
        </p:grpSpPr>
        <p:sp>
          <p:nvSpPr>
            <p:cNvPr id="149" name="TextBox 20"/>
            <p:cNvSpPr/>
            <p:nvPr/>
          </p:nvSpPr>
          <p:spPr>
            <a:xfrm>
              <a:off x="570240" y="4635360"/>
              <a:ext cx="15703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020 719667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21" descr="Picture 21"/>
            <p:cNvPicPr/>
            <p:nvPr/>
          </p:nvPicPr>
          <p:blipFill>
            <a:blip r:embed="rId1"/>
            <a:stretch/>
          </p:blipFill>
          <p:spPr>
            <a:xfrm>
              <a:off x="303120" y="4698000"/>
              <a:ext cx="228600" cy="212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1" name="Picture 4" descr=""/>
          <p:cNvPicPr/>
          <p:nvPr/>
        </p:nvPicPr>
        <p:blipFill>
          <a:blip r:embed="rId2"/>
          <a:stretch/>
        </p:blipFill>
        <p:spPr>
          <a:xfrm>
            <a:off x="7637400" y="1095480"/>
            <a:ext cx="374760" cy="37152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6"/>
          <p:cNvGrpSpPr/>
          <p:nvPr/>
        </p:nvGrpSpPr>
        <p:grpSpPr>
          <a:xfrm>
            <a:off x="7273800" y="-573120"/>
            <a:ext cx="2100240" cy="1554120"/>
            <a:chOff x="7273800" y="-573120"/>
            <a:chExt cx="2100240" cy="1554120"/>
          </a:xfrm>
        </p:grpSpPr>
        <p:grpSp>
          <p:nvGrpSpPr>
            <p:cNvPr id="153" name="Oval 7"/>
            <p:cNvGrpSpPr/>
            <p:nvPr/>
          </p:nvGrpSpPr>
          <p:grpSpPr>
            <a:xfrm>
              <a:off x="7273800" y="-573120"/>
              <a:ext cx="2100240" cy="1554120"/>
              <a:chOff x="7273800" y="-573120"/>
              <a:chExt cx="2100240" cy="1554120"/>
            </a:xfrm>
          </p:grpSpPr>
          <p:pic>
            <p:nvPicPr>
              <p:cNvPr id="154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7273800" y="-573120"/>
                <a:ext cx="2100240" cy="155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>
                <a:off x="7623000" y="-332640"/>
                <a:ext cx="1401840" cy="10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6" name="Picture 1" descr=""/>
            <p:cNvPicPr/>
            <p:nvPr/>
          </p:nvPicPr>
          <p:blipFill>
            <a:blip r:embed="rId4"/>
            <a:stretch/>
          </p:blipFill>
          <p:spPr>
            <a:xfrm>
              <a:off x="7661880" y="130680"/>
              <a:ext cx="1240560" cy="39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Rectangle 9"/>
          <p:cNvSpPr/>
          <p:nvPr/>
        </p:nvSpPr>
        <p:spPr>
          <a:xfrm>
            <a:off x="531720" y="1112760"/>
            <a:ext cx="47214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Many causes of azoospermia are reversible and trea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n cases of obstructive azoospermia, treatment often is surgical removal of the obstruction or reconstruction of the obstructed ducts, so sperm can reach the sem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f you had previous surgeries like vasectomy then it can probably lead to azoospermia. Reversal of vasectomy need to be performed for restoring the sperm count in the s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576360" y="334800"/>
            <a:ext cx="66974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an azoospermia be treated to realise the dream of parenthoo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5"/>
          <a:stretch/>
        </p:blipFill>
        <p:spPr>
          <a:xfrm>
            <a:off x="5357880" y="1731960"/>
            <a:ext cx="2865240" cy="229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1"/>
          <p:cNvSpPr/>
          <p:nvPr/>
        </p:nvSpPr>
        <p:spPr>
          <a:xfrm>
            <a:off x="3276720" y="2300400"/>
            <a:ext cx="4857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9"/>
          <p:cNvGrpSpPr/>
          <p:nvPr/>
        </p:nvGrpSpPr>
        <p:grpSpPr>
          <a:xfrm>
            <a:off x="303120" y="4635360"/>
            <a:ext cx="1837440" cy="343080"/>
            <a:chOff x="303120" y="4635360"/>
            <a:chExt cx="1837440" cy="343080"/>
          </a:xfrm>
        </p:grpSpPr>
        <p:sp>
          <p:nvSpPr>
            <p:cNvPr id="162" name="TextBox 20"/>
            <p:cNvSpPr/>
            <p:nvPr/>
          </p:nvSpPr>
          <p:spPr>
            <a:xfrm>
              <a:off x="570240" y="4635360"/>
              <a:ext cx="15703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020 719667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21" descr="Picture 21"/>
            <p:cNvPicPr/>
            <p:nvPr/>
          </p:nvPicPr>
          <p:blipFill>
            <a:blip r:embed="rId1"/>
            <a:stretch/>
          </p:blipFill>
          <p:spPr>
            <a:xfrm>
              <a:off x="303120" y="4698000"/>
              <a:ext cx="228600" cy="212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4" name="Picture 4" descr=""/>
          <p:cNvPicPr/>
          <p:nvPr/>
        </p:nvPicPr>
        <p:blipFill>
          <a:blip r:embed="rId2"/>
          <a:stretch/>
        </p:blipFill>
        <p:spPr>
          <a:xfrm>
            <a:off x="504720" y="1685880"/>
            <a:ext cx="374760" cy="37152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6"/>
          <p:cNvGrpSpPr/>
          <p:nvPr/>
        </p:nvGrpSpPr>
        <p:grpSpPr>
          <a:xfrm>
            <a:off x="7273800" y="-573120"/>
            <a:ext cx="2100240" cy="1554120"/>
            <a:chOff x="7273800" y="-573120"/>
            <a:chExt cx="2100240" cy="1554120"/>
          </a:xfrm>
        </p:grpSpPr>
        <p:grpSp>
          <p:nvGrpSpPr>
            <p:cNvPr id="166" name="Oval 7"/>
            <p:cNvGrpSpPr/>
            <p:nvPr/>
          </p:nvGrpSpPr>
          <p:grpSpPr>
            <a:xfrm>
              <a:off x="7273800" y="-573120"/>
              <a:ext cx="2100240" cy="1554120"/>
              <a:chOff x="7273800" y="-573120"/>
              <a:chExt cx="2100240" cy="1554120"/>
            </a:xfrm>
          </p:grpSpPr>
          <p:pic>
            <p:nvPicPr>
              <p:cNvPr id="167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7273800" y="-573120"/>
                <a:ext cx="2100240" cy="155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8" name=""/>
              <p:cNvSpPr/>
              <p:nvPr/>
            </p:nvSpPr>
            <p:spPr>
              <a:xfrm>
                <a:off x="7623000" y="-332640"/>
                <a:ext cx="1401840" cy="10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9" name="Picture 1" descr=""/>
            <p:cNvPicPr/>
            <p:nvPr/>
          </p:nvPicPr>
          <p:blipFill>
            <a:blip r:embed="rId4"/>
            <a:stretch/>
          </p:blipFill>
          <p:spPr>
            <a:xfrm>
              <a:off x="7661880" y="130680"/>
              <a:ext cx="1240560" cy="39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Rectangle 13"/>
          <p:cNvSpPr/>
          <p:nvPr/>
        </p:nvSpPr>
        <p:spPr>
          <a:xfrm>
            <a:off x="3224160" y="1303200"/>
            <a:ext cx="5473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MICRO TESE: This is the latest technique in infertility treatment that focuses targeted removal of sperms from the testic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is is a minor surgical procedure of 3 to 4 hours done under general anaesthesia. Search for precious sperms is done under a high resolution microscope. Sperms found are then used for ICSI-IVF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is process increases IVF success rates in cases of male infert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116000" y="495360"/>
            <a:ext cx="5721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hat are the treatments of Azoospermia or Zero Sperm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5"/>
          <a:stretch/>
        </p:blipFill>
        <p:spPr>
          <a:xfrm>
            <a:off x="530280" y="1865160"/>
            <a:ext cx="2786040" cy="145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"/>
          <p:cNvSpPr/>
          <p:nvPr/>
        </p:nvSpPr>
        <p:spPr>
          <a:xfrm>
            <a:off x="3276720" y="2300400"/>
            <a:ext cx="4857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9"/>
          <p:cNvGrpSpPr/>
          <p:nvPr/>
        </p:nvGrpSpPr>
        <p:grpSpPr>
          <a:xfrm>
            <a:off x="303120" y="4635360"/>
            <a:ext cx="1837440" cy="343080"/>
            <a:chOff x="303120" y="4635360"/>
            <a:chExt cx="1837440" cy="343080"/>
          </a:xfrm>
        </p:grpSpPr>
        <p:sp>
          <p:nvSpPr>
            <p:cNvPr id="175" name="TextBox 20"/>
            <p:cNvSpPr/>
            <p:nvPr/>
          </p:nvSpPr>
          <p:spPr>
            <a:xfrm>
              <a:off x="570240" y="4635360"/>
              <a:ext cx="15703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020 719667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21" descr="Picture 21"/>
            <p:cNvPicPr/>
            <p:nvPr/>
          </p:nvPicPr>
          <p:blipFill>
            <a:blip r:embed="rId1"/>
            <a:stretch/>
          </p:blipFill>
          <p:spPr>
            <a:xfrm>
              <a:off x="303120" y="4698000"/>
              <a:ext cx="228600" cy="212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7574040" y="1328760"/>
            <a:ext cx="374400" cy="37152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6"/>
          <p:cNvGrpSpPr/>
          <p:nvPr/>
        </p:nvGrpSpPr>
        <p:grpSpPr>
          <a:xfrm>
            <a:off x="7273800" y="-573120"/>
            <a:ext cx="2100240" cy="1554120"/>
            <a:chOff x="7273800" y="-573120"/>
            <a:chExt cx="2100240" cy="1554120"/>
          </a:xfrm>
        </p:grpSpPr>
        <p:grpSp>
          <p:nvGrpSpPr>
            <p:cNvPr id="179" name="Oval 7"/>
            <p:cNvGrpSpPr/>
            <p:nvPr/>
          </p:nvGrpSpPr>
          <p:grpSpPr>
            <a:xfrm>
              <a:off x="7273800" y="-573120"/>
              <a:ext cx="2100240" cy="1554120"/>
              <a:chOff x="7273800" y="-573120"/>
              <a:chExt cx="2100240" cy="1554120"/>
            </a:xfrm>
          </p:grpSpPr>
          <p:pic>
            <p:nvPicPr>
              <p:cNvPr id="180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7273800" y="-573120"/>
                <a:ext cx="2100240" cy="155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7623000" y="-332640"/>
                <a:ext cx="1401840" cy="10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2" name="Picture 1" descr=""/>
            <p:cNvPicPr/>
            <p:nvPr/>
          </p:nvPicPr>
          <p:blipFill>
            <a:blip r:embed="rId4"/>
            <a:stretch/>
          </p:blipFill>
          <p:spPr>
            <a:xfrm>
              <a:off x="7661880" y="130680"/>
              <a:ext cx="1240560" cy="39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Rectangle 16"/>
          <p:cNvSpPr/>
          <p:nvPr/>
        </p:nvSpPr>
        <p:spPr>
          <a:xfrm>
            <a:off x="531720" y="1440000"/>
            <a:ext cx="462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However, cases of congenital azoospermia are irreversible and cannot be treated effectively where as, all other cases of obstructive as well as non-obstructive azoospermia can be corrected  with surgical and medical treatment respectiv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t takes about 2 to 3 weeks’ time for this condition to be diagnosed and treated successful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650960" y="558720"/>
            <a:ext cx="4721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w much time is taken to treat azoospermi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5"/>
          <a:stretch/>
        </p:blipFill>
        <p:spPr>
          <a:xfrm>
            <a:off x="5145120" y="1725480"/>
            <a:ext cx="3005280" cy="20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"/>
          <p:cNvSpPr/>
          <p:nvPr/>
        </p:nvSpPr>
        <p:spPr>
          <a:xfrm>
            <a:off x="3276720" y="2300400"/>
            <a:ext cx="4857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9"/>
          <p:cNvGrpSpPr/>
          <p:nvPr/>
        </p:nvGrpSpPr>
        <p:grpSpPr>
          <a:xfrm>
            <a:off x="303120" y="4635360"/>
            <a:ext cx="1837440" cy="343080"/>
            <a:chOff x="303120" y="4635360"/>
            <a:chExt cx="1837440" cy="343080"/>
          </a:xfrm>
        </p:grpSpPr>
        <p:sp>
          <p:nvSpPr>
            <p:cNvPr id="188" name="TextBox 20"/>
            <p:cNvSpPr/>
            <p:nvPr/>
          </p:nvSpPr>
          <p:spPr>
            <a:xfrm>
              <a:off x="570240" y="4635360"/>
              <a:ext cx="15703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020 719667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Picture 21" descr="Picture 21"/>
            <p:cNvPicPr/>
            <p:nvPr/>
          </p:nvPicPr>
          <p:blipFill>
            <a:blip r:embed="rId1"/>
            <a:stretch/>
          </p:blipFill>
          <p:spPr>
            <a:xfrm>
              <a:off x="303120" y="4698000"/>
              <a:ext cx="228600" cy="212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Picture 4" descr=""/>
          <p:cNvPicPr/>
          <p:nvPr/>
        </p:nvPicPr>
        <p:blipFill>
          <a:blip r:embed="rId2"/>
          <a:stretch/>
        </p:blipFill>
        <p:spPr>
          <a:xfrm>
            <a:off x="7327800" y="1046160"/>
            <a:ext cx="374760" cy="371520"/>
          </a:xfrm>
          <a:prstGeom prst="rect">
            <a:avLst/>
          </a:prstGeom>
          <a:ln w="0">
            <a:noFill/>
          </a:ln>
        </p:spPr>
      </p:pic>
      <p:grpSp>
        <p:nvGrpSpPr>
          <p:cNvPr id="191" name="Group 6"/>
          <p:cNvGrpSpPr/>
          <p:nvPr/>
        </p:nvGrpSpPr>
        <p:grpSpPr>
          <a:xfrm>
            <a:off x="7273800" y="-573120"/>
            <a:ext cx="2100240" cy="1554120"/>
            <a:chOff x="7273800" y="-573120"/>
            <a:chExt cx="2100240" cy="1554120"/>
          </a:xfrm>
        </p:grpSpPr>
        <p:grpSp>
          <p:nvGrpSpPr>
            <p:cNvPr id="192" name="Oval 7"/>
            <p:cNvGrpSpPr/>
            <p:nvPr/>
          </p:nvGrpSpPr>
          <p:grpSpPr>
            <a:xfrm>
              <a:off x="7273800" y="-573120"/>
              <a:ext cx="2100240" cy="1554120"/>
              <a:chOff x="7273800" y="-573120"/>
              <a:chExt cx="2100240" cy="1554120"/>
            </a:xfrm>
          </p:grpSpPr>
          <p:pic>
            <p:nvPicPr>
              <p:cNvPr id="193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7273800" y="-573120"/>
                <a:ext cx="2100240" cy="155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7623000" y="-332640"/>
                <a:ext cx="1401840" cy="10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5" name="Picture 1" descr=""/>
            <p:cNvPicPr/>
            <p:nvPr/>
          </p:nvPicPr>
          <p:blipFill>
            <a:blip r:embed="rId4"/>
            <a:stretch/>
          </p:blipFill>
          <p:spPr>
            <a:xfrm>
              <a:off x="7661880" y="130680"/>
              <a:ext cx="1240560" cy="39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Rectangle 3"/>
          <p:cNvSpPr/>
          <p:nvPr/>
        </p:nvSpPr>
        <p:spPr>
          <a:xfrm>
            <a:off x="1544760" y="642960"/>
            <a:ext cx="4800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 Things You Need To Know About Azoosperm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303120" y="1833480"/>
            <a:ext cx="462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. Azoospermia can be obstructive or non-obstru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2. People with azoospermia often have normal sexual function and ejac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3. Azoospermia treatment is dependent on the c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4. Good news is that, some of the underlying cause can be t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" descr=""/>
          <p:cNvPicPr/>
          <p:nvPr/>
        </p:nvPicPr>
        <p:blipFill>
          <a:blip r:embed="rId5"/>
          <a:stretch/>
        </p:blipFill>
        <p:spPr>
          <a:xfrm>
            <a:off x="5157720" y="1616040"/>
            <a:ext cx="2747880" cy="27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3276720" y="2300400"/>
            <a:ext cx="4857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9"/>
          <p:cNvGrpSpPr/>
          <p:nvPr/>
        </p:nvGrpSpPr>
        <p:grpSpPr>
          <a:xfrm>
            <a:off x="303120" y="4635360"/>
            <a:ext cx="1837440" cy="343080"/>
            <a:chOff x="303120" y="4635360"/>
            <a:chExt cx="1837440" cy="343080"/>
          </a:xfrm>
        </p:grpSpPr>
        <p:sp>
          <p:nvSpPr>
            <p:cNvPr id="201" name="TextBox 20"/>
            <p:cNvSpPr/>
            <p:nvPr/>
          </p:nvSpPr>
          <p:spPr>
            <a:xfrm>
              <a:off x="570240" y="4635360"/>
              <a:ext cx="157032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200" rIns="3420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  <a:ea typeface="Arial"/>
                </a:rPr>
                <a:t>020 719667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2" name="Picture 21" descr="Picture 21"/>
            <p:cNvPicPr/>
            <p:nvPr/>
          </p:nvPicPr>
          <p:blipFill>
            <a:blip r:embed="rId1"/>
            <a:stretch/>
          </p:blipFill>
          <p:spPr>
            <a:xfrm>
              <a:off x="303120" y="4698000"/>
              <a:ext cx="228600" cy="212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3" name="Picture 4" descr=""/>
          <p:cNvPicPr/>
          <p:nvPr/>
        </p:nvPicPr>
        <p:blipFill>
          <a:blip r:embed="rId2"/>
          <a:stretch/>
        </p:blipFill>
        <p:spPr>
          <a:xfrm>
            <a:off x="7574040" y="1328760"/>
            <a:ext cx="374400" cy="371520"/>
          </a:xfrm>
          <a:prstGeom prst="rect">
            <a:avLst/>
          </a:prstGeom>
          <a:ln w="0">
            <a:noFill/>
          </a:ln>
        </p:spPr>
      </p:pic>
      <p:grpSp>
        <p:nvGrpSpPr>
          <p:cNvPr id="204" name="Group 6"/>
          <p:cNvGrpSpPr/>
          <p:nvPr/>
        </p:nvGrpSpPr>
        <p:grpSpPr>
          <a:xfrm>
            <a:off x="7273800" y="-573120"/>
            <a:ext cx="2100240" cy="1554120"/>
            <a:chOff x="7273800" y="-573120"/>
            <a:chExt cx="2100240" cy="1554120"/>
          </a:xfrm>
        </p:grpSpPr>
        <p:grpSp>
          <p:nvGrpSpPr>
            <p:cNvPr id="205" name="Oval 7"/>
            <p:cNvGrpSpPr/>
            <p:nvPr/>
          </p:nvGrpSpPr>
          <p:grpSpPr>
            <a:xfrm>
              <a:off x="7273800" y="-573120"/>
              <a:ext cx="2100240" cy="1554120"/>
              <a:chOff x="7273800" y="-573120"/>
              <a:chExt cx="2100240" cy="1554120"/>
            </a:xfrm>
          </p:grpSpPr>
          <p:pic>
            <p:nvPicPr>
              <p:cNvPr id="206" name="Oval 7" descr=""/>
              <p:cNvPicPr/>
              <p:nvPr/>
            </p:nvPicPr>
            <p:blipFill>
              <a:blip r:embed="rId3"/>
              <a:stretch/>
            </p:blipFill>
            <p:spPr>
              <a:xfrm>
                <a:off x="7273800" y="-573120"/>
                <a:ext cx="2100240" cy="155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"/>
              <p:cNvSpPr/>
              <p:nvPr/>
            </p:nvSpPr>
            <p:spPr>
              <a:xfrm>
                <a:off x="7623000" y="-332640"/>
                <a:ext cx="1401840" cy="10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8" name="Picture 1" descr=""/>
            <p:cNvPicPr/>
            <p:nvPr/>
          </p:nvPicPr>
          <p:blipFill>
            <a:blip r:embed="rId4"/>
            <a:stretch/>
          </p:blipFill>
          <p:spPr>
            <a:xfrm>
              <a:off x="7661880" y="130680"/>
              <a:ext cx="1240560" cy="39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9" name="Picture 14" descr=""/>
          <p:cNvPicPr/>
          <p:nvPr/>
        </p:nvPicPr>
        <p:blipFill>
          <a:blip r:embed="rId5"/>
          <a:stretch/>
        </p:blipFill>
        <p:spPr>
          <a:xfrm>
            <a:off x="549360" y="1609560"/>
            <a:ext cx="3174840" cy="223704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3"/>
          <p:cNvSpPr/>
          <p:nvPr/>
        </p:nvSpPr>
        <p:spPr>
          <a:xfrm>
            <a:off x="1473120" y="612720"/>
            <a:ext cx="4318200" cy="642600"/>
          </a:xfrm>
          <a:prstGeom prst="rect">
            <a:avLst/>
          </a:prstGeom>
          <a:gradFill rotWithShape="0">
            <a:gsLst>
              <a:gs pos="0">
                <a:srgbClr val="92e6d1"/>
              </a:gs>
              <a:gs pos="100000">
                <a:srgbClr val="dff6f0"/>
              </a:gs>
            </a:gsLst>
            <a:lin ang="18900000"/>
          </a:gradFill>
          <a:ln w="255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ZOOSPERMIA is treated and dream of parenthood is achieved  @YASH IV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3735360" y="1539720"/>
            <a:ext cx="4770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r.Chaitanya Ganapule is the Mentor &amp; director of Pearl Women's Hospital and Yash IVF, Pune. Staffed almost entirely by women, was established in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o provide affordable, compassionate treatment to women of all ages and from all walks of life, with minimal inva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e clinic along with the medical team shall be happy to answer your queries. you can submit medical papers to info@yashivf.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he paid online consultation serves the best 2nd opinion and is rated as the best service off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18T06:16:47Z</dcterms:created>
  <dc:creator>Admin</dc:creator>
  <dc:description/>
  <dc:language>en-US</dc:language>
  <cp:lastModifiedBy>Admin</cp:lastModifiedBy>
  <dcterms:modified xsi:type="dcterms:W3CDTF">2023-03-08T10:32:24Z</dcterms:modified>
  <cp:revision>172</cp:revision>
  <dc:subject/>
  <dc:title>PowerPoint Presentation</dc:title>
</cp:coreProperties>
</file>